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461-365E-4CAA-9B55-40FBCFAA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4B7-E1B9-43EA-9172-AAA55256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CC5-1D01-475F-AA23-CAF0EAFC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2F7-F3CB-4898-8793-BDAD6079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FBD-18A1-4CE3-8B29-BAD860E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CBF-1F6C-4DB5-AC73-229DA665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DF4-A40F-412B-9CFF-08E22632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A01-D278-490B-8295-833EA6BA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A64-4099-4225-8CF4-0E96F41B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82B-24B4-460A-8E1A-6797931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2E7-9874-4AB3-BEBE-94384F1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E63-A0CB-4212-9034-4A575A7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888E-8871-45B4-9142-DE84200C6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w.volsu.ru/Partners/ForeignPartners/wEurope/deutschland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b.ua-ru.net/diss/cont/108632.html" TargetMode="External"/><Relationship Id="rId2" Type="http://schemas.openxmlformats.org/officeDocument/2006/relationships/hyperlink" Target="http://www.mirrabot.com/work/work_62554.html" TargetMode="External"/><Relationship Id="rId3" Type="http://schemas.openxmlformats.org/officeDocument/2006/relationships/hyperlink" Target="http://scepsis.ru/library/id_1336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7 из 3516">
            <a:hlinkClick r:id="rId1"/>
          </p:cNvPr>
          <p:cNvPicPr/>
          <p:nvPr/>
        </p:nvPicPr>
        <p:blipFill>
          <a:blip r:embed="rId2"/>
          <a:stretch/>
        </p:blipFill>
        <p:spPr>
          <a:xfrm rot="20902800">
            <a:off x="3425760" y="1555560"/>
            <a:ext cx="2157480" cy="93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rot="20865000">
            <a:off x="1331640" y="2060640"/>
            <a:ext cx="1751040" cy="87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828400">
            <a:off x="826560" y="148392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блемы молодёжи</a:t>
            </a:r>
            <a:endParaRPr b="1" lang="en-US" sz="4800" spc="1" strike="noStrike">
              <a:ln w="936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4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России  и Германии</a:t>
            </a:r>
            <a:endParaRPr b="1" lang="en-US" sz="4800" spc="1" strike="noStrike">
              <a:ln w="936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2000" y="2205000"/>
            <a:ext cx="2885760" cy="394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71640" y="3141720"/>
            <a:ext cx="4314600" cy="293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0920" y="616572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630864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6216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студентка 426 группы Бороненко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71640" y="836640"/>
            <a:ext cx="7067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: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2637000"/>
            <a:ext cx="6496200" cy="30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представляет собой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годняшняя молодёжь?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908000" y="404640"/>
            <a:ext cx="515304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ные 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ы: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637000"/>
            <a:ext cx="7777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Есть ли у молодёжи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уществуют ли отличия проблем молодёжи России и Герм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627280" y="404640"/>
            <a:ext cx="364824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астные 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ы: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844640"/>
            <a:ext cx="82072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Что такое пробл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Какие виды проблем сегодняшней молодёжи можно выдел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По каким причинам они возник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Какие способы их решения существу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Все ли способы эффектив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Кто помогает подросткам справиться с н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9280" y="2205000"/>
            <a:ext cx="5689440" cy="4508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476280"/>
            <a:ext cx="72550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зультаты исследования 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нной темы: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3141720"/>
            <a:ext cx="4897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ер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б-с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газ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л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332000" y="765000"/>
            <a:ext cx="6422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льность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а: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637000"/>
            <a:ext cx="58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 рассчитан на 2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о 4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a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42920" y="692280"/>
            <a:ext cx="727416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Информацию можно найти по следующим ссылк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.ua-ru.net/diss/cont/108632.html#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irrabot.com/work/work_6255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cepsis.ru/library/id_1336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06:37Z</dcterms:created>
  <dc:creator>User_10</dc:creator>
  <dc:description/>
  <dc:language>en-US</dc:language>
  <cp:lastModifiedBy>User_10</cp:lastModifiedBy>
  <dcterms:modified xsi:type="dcterms:W3CDTF">2009-10-15T10:59:46Z</dcterms:modified>
  <cp:revision>3</cp:revision>
  <dc:subject/>
  <dc:title>Слайд 1</dc:title>
</cp:coreProperties>
</file>